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42C-7D10-4EAC-BF7B-ABA233D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151-81B9-4389-B9C6-B887CF8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CDE-1475-46D7-87B6-DC74681D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396-5DF5-4CB6-9771-09780370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636-317C-43B9-8860-BED52951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702-6072-4A8C-8026-662EFAE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AEE-DB82-4E68-911B-D11D18D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EA3-F5A7-41B3-AFD0-AD3719A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95D-DDA9-4C92-B642-E75E774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89B-AE97-466B-8AE7-11EB1C7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FAE-246F-4720-A66B-42736CF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982-D5E0-4A92-BBBF-8ABD61B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E95F-0422-4055-A47F-ED76F00E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609480"/>
            <a:ext cx="9372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Maiandra GD"/>
              </a:rPr>
              <a:t>Mr. Shulman Uses a Document Camer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383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cher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laining Letter to Legislator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explaining how to fill out the outline. I emphasize certain words, and provide examples for som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acher Us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laining the Electoral Colle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showing the electoral college map and explaining one of the tasks my students need to accomp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cher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laining the Federal Budge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going over a Webquest with my AP students. I am writing down answers to student responses. We also discussed vocabulary and I asked many follow up questions about student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llaborative Groups Debating the Electoral Colle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orked in groups to come up with 3 arguments For/Against using the Electoral college. The paper for each group was put on the document camera to display the list to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Students Explaining Presidential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presented the meaning of a variety of presidential powers to the class. After conducting their research, students used the document camera to visualize different types of presidential po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5:42:14Z</dcterms:created>
  <dc:creator>William.Shulman</dc:creator>
  <dc:description/>
  <dc:language>en-US</dc:language>
  <cp:lastModifiedBy>William.Shulman</cp:lastModifiedBy>
  <dcterms:modified xsi:type="dcterms:W3CDTF">2009-01-26T14:20:33Z</dcterms:modified>
  <cp:revision>8</cp:revision>
  <dc:subject/>
  <dc:title>Mr. Shulman Uses a Document Camera</dc:title>
</cp:coreProperties>
</file>